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387-2F75-4ECC-B619-35C4F518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70D-6D02-461C-A586-D9F10AAB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7CB-50E1-40B7-9E9B-BD36BA61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30B-B5FF-4669-AEBC-719AEF59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FA1-E214-4813-AF8E-FBB74187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FF4-D26C-4B9A-A48D-9C939292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F39E-B569-46D3-AD09-F9A565B6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343-B0C7-44C2-BEA8-D0A89B44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524-6081-48E5-A8F6-4B4CAD66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E93-9936-458D-9A4A-765D243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D6F-F2CD-47FA-A884-FB4BB70D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1A2-28F0-41CB-A3D7-CE33A136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01C0-8784-40FA-B00D-EC1B20418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1981080" cy="2133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129528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3352680"/>
            <a:ext cx="198108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257800" y="1219320"/>
            <a:ext cx="2308320" cy="2057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2514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Rockwell Extra Bold"/>
              </a:rPr>
              <a:t>Une po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685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33cc"/>
                </a:solidFill>
                <a:latin typeface="Rockwell Extra Bold"/>
              </a:rPr>
              <a:t>Une pê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715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Rockwell Extra Bold"/>
              </a:rPr>
              <a:t>Une pom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33cc"/>
                </a:solidFill>
                <a:latin typeface="Rockwell Extra Bold"/>
              </a:rPr>
              <a:t>une f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059280" y="1989000"/>
            <a:ext cx="2376360" cy="2735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132000" y="494172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Un pani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905120" y="990720"/>
            <a:ext cx="53337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je vais au marché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3252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143000" y="990720"/>
            <a:ext cx="67816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vec mon panier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38102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80880"/>
            <a:ext cx="56275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pomme …..Moi, j’ai une po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362320"/>
            <a:ext cx="577044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pêche…..Moi, j’ai une po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4343400"/>
            <a:ext cx="60595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poire…..Moi, j’ai une pê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po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49960" y="1523880"/>
            <a:ext cx="379404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762120"/>
            <a:ext cx="57798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fraise……Moi, j’ai une po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i, j’ai une pêche…..Moi, j’ai une pom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733920"/>
            <a:ext cx="64767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pommes….un kilo de po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15000" y="7621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52280"/>
            <a:ext cx="662940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pêches …..  Un kilo de pom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2060640"/>
            <a:ext cx="5791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poires ……   Un kilo de pê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pom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508640"/>
            <a:ext cx="6642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vec mon panier, je vais au marc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Qu’est ce que tu as donc dans ton pan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fraises……Un kilo de po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n kilo de pêches……Un kilo de pom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2971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12:10:01Z</dcterms:created>
  <dc:creator>SIMMS</dc:creator>
  <dc:description/>
  <dc:language>en-US</dc:language>
  <cp:lastModifiedBy>User</cp:lastModifiedBy>
  <dcterms:modified xsi:type="dcterms:W3CDTF">2004-02-05T23:27:23Z</dcterms:modified>
  <cp:revision>8</cp:revision>
  <dc:subject/>
  <dc:title>PowerPoint Presentation</dc:title>
</cp:coreProperties>
</file>